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1C3-ED86-432C-9B27-AFE452E6A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ulti-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 Classmat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7AC0-9845-41EB-9FCD-1F5EAFA14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6D39-9807-4274-8318-F9AA17237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C693-4385-4CBC-998E-8318532E4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CAAF-3321-488F-867E-630AB85E5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8183-AEC1-497A-A627-8F21D500A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6540-F6CB-4F05-9B61-B7D39E322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1DFC-788C-40C1-95C4-C37BB8C4E0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FA3C-6420-4258-9A5B-ADA492394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E885-D69B-48D5-861C-C7979485B8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ABA3-F6BC-47F6-874D-E6995925A2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755A-FECD-43B7-AEC9-1ED53983E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B42E-689F-4865-BCEF-DB9360F25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D127-3CD1-44CC-9FC1-FE1F2EE32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8AF1-912B-41A9-B282-6D8369CE4F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1218-59CF-4039-A8B0-D3A6B9FB3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9329-29A3-4777-84D7-E8B4CE693D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C4CF-4A81-4962-8B35-1753B8A13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9E08-3378-4EB1-B756-3C1D5A104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3BD8-1055-4452-B221-1E8E8F425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147C-D9C0-4E7D-9012-6B9CF76E3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7433-B827-4258-A3E6-ACDC017BB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6EA0-C90B-49D4-B430-D184E8387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6D87-5418-4093-BE51-0E3B9CE90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5998-0743-41D1-A5F6-ED0E66D7D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1240" indent="-35100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316080">
              <a:spcBef>
                <a:spcPts val="700"/>
              </a:spcBef>
              <a:buClr>
                <a:srgbClr val="3b812f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004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004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004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9088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092-FAE1-46F3-9B29-70676076A0C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981080" y="3962160"/>
            <a:ext cx="655344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1000"/>
          </a:bodyPr>
          <a:p>
            <a:pPr marL="32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9088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793E-8CDC-4036-A767-39259FDB1FE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room Presenter on the XO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8314-F289-473B-9A82-0575D08200A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43000" y="41911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ias Kl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ur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an May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stofer Plunk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p3d.JPG"/>
          <p:cNvPicPr/>
          <p:nvPr/>
        </p:nvPicPr>
        <p:blipFill>
          <a:blip r:embed="rId2"/>
          <a:stretch/>
        </p:blipFill>
        <p:spPr>
          <a:xfrm>
            <a:off x="533520" y="1066680"/>
            <a:ext cx="4152960" cy="28879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10"/>
          <p:cNvSpPr/>
          <p:nvPr/>
        </p:nvSpPr>
        <p:spPr>
          <a:xfrm>
            <a:off x="5638680" y="1143000"/>
            <a:ext cx="2819520" cy="1676520"/>
          </a:xfrm>
          <a:prstGeom prst="pie">
            <a:avLst/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2448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IC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12"/>
          <p:cNvSpPr/>
          <p:nvPr/>
        </p:nvSpPr>
        <p:spPr>
          <a:xfrm>
            <a:off x="4800600" y="1828800"/>
            <a:ext cx="762120" cy="533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13"/>
          <p:cNvSpPr/>
          <p:nvPr/>
        </p:nvSpPr>
        <p:spPr>
          <a:xfrm>
            <a:off x="6781680" y="30481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05320" y="2895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7000"/>
          </a:bodyPr>
          <a:p>
            <a:pPr marL="2944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115-EAD9-47E9-BA32-AB8D6632DAC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 being donated to school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ant to develop lesson plans and contribute to XO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scattered proposals and projects, largely focused on development of X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thout computer expertise at 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5F55-BF75-4F27-A2EE-0BDA25B3176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r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Presenter on the XO Lap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for distributing and collecting information in 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based on Classroom Presenter for Tablet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owerPoint as front-end, more accessible to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s XO into classroom set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845-B866-43AE-A50D-5F66FE377ED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971800" cy="2631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538920" y="2787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loads slide de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s sli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457200" y="196920"/>
            <a:ext cx="457200" cy="457200"/>
            <a:chOff x="457200" y="196920"/>
            <a:chExt cx="457200" cy="457200"/>
          </a:xfrm>
        </p:grpSpPr>
        <p:sp>
          <p:nvSpPr>
            <p:cNvPr id="111" name="Oval 4"/>
            <p:cNvSpPr/>
            <p:nvPr/>
          </p:nvSpPr>
          <p:spPr>
            <a:xfrm>
              <a:off x="457200" y="196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519480" y="2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4800600" y="152280"/>
            <a:ext cx="4029120" cy="3157200"/>
            <a:chOff x="4800600" y="152280"/>
            <a:chExt cx="4029120" cy="3157200"/>
          </a:xfrm>
        </p:grpSpPr>
        <p:grpSp>
          <p:nvGrpSpPr>
            <p:cNvPr id="114" name="Group 7"/>
            <p:cNvGrpSpPr/>
            <p:nvPr/>
          </p:nvGrpSpPr>
          <p:grpSpPr>
            <a:xfrm>
              <a:off x="4800600" y="152280"/>
              <a:ext cx="457200" cy="457200"/>
              <a:chOff x="4800600" y="152280"/>
              <a:chExt cx="457200" cy="457200"/>
            </a:xfrm>
          </p:grpSpPr>
          <p:sp>
            <p:nvSpPr>
              <p:cNvPr id="115" name="Oval 8"/>
              <p:cNvSpPr/>
              <p:nvPr/>
            </p:nvSpPr>
            <p:spPr>
              <a:xfrm>
                <a:off x="4800600" y="152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862880" y="19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10" descr="xo-cp-mockup-ink1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004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1"/>
            <p:cNvSpPr/>
            <p:nvPr/>
          </p:nvSpPr>
          <p:spPr>
            <a:xfrm>
              <a:off x="4807080" y="2666880"/>
              <a:ext cx="40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s see slides and teacher’s in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own ink and send back to te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rc 12"/>
          <p:cNvSpPr/>
          <p:nvPr/>
        </p:nvSpPr>
        <p:spPr>
          <a:xfrm>
            <a:off x="3429000" y="380880"/>
            <a:ext cx="380880" cy="38124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3"/>
          <p:cNvSpPr/>
          <p:nvPr/>
        </p:nvSpPr>
        <p:spPr>
          <a:xfrm>
            <a:off x="3429000" y="228600"/>
            <a:ext cx="533520" cy="53352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4"/>
          <p:cNvSpPr/>
          <p:nvPr/>
        </p:nvSpPr>
        <p:spPr>
          <a:xfrm>
            <a:off x="3429000" y="76320"/>
            <a:ext cx="685800" cy="68580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6"/>
          <p:cNvGrpSpPr/>
          <p:nvPr/>
        </p:nvGrpSpPr>
        <p:grpSpPr>
          <a:xfrm>
            <a:off x="228600" y="3581280"/>
            <a:ext cx="4092480" cy="3157200"/>
            <a:chOff x="228600" y="3581280"/>
            <a:chExt cx="4092480" cy="3157200"/>
          </a:xfrm>
        </p:grpSpPr>
        <p:pic>
          <p:nvPicPr>
            <p:cNvPr id="123" name="Picture 24" descr="xo-slide-ink2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854360" cy="15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Group 15"/>
            <p:cNvGrpSpPr/>
            <p:nvPr/>
          </p:nvGrpSpPr>
          <p:grpSpPr>
            <a:xfrm>
              <a:off x="228600" y="3581280"/>
              <a:ext cx="457200" cy="457200"/>
              <a:chOff x="228600" y="3581280"/>
              <a:chExt cx="457200" cy="457200"/>
            </a:xfrm>
          </p:grpSpPr>
          <p:sp>
            <p:nvSpPr>
              <p:cNvPr id="125" name="Oval 16"/>
              <p:cNvSpPr/>
              <p:nvPr/>
            </p:nvSpPr>
            <p:spPr>
              <a:xfrm>
                <a:off x="228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290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8"/>
            <p:cNvSpPr/>
            <p:nvPr/>
          </p:nvSpPr>
          <p:spPr>
            <a:xfrm>
              <a:off x="232920" y="6095880"/>
              <a:ext cx="408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receives and reviews 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missions; gets feedback from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1" descr="xo-slide-ink1"/>
            <p:cNvPicPr/>
            <p:nvPr/>
          </p:nvPicPr>
          <p:blipFill>
            <a:blip r:embed="rId4"/>
            <a:stretch/>
          </p:blipFill>
          <p:spPr>
            <a:xfrm>
              <a:off x="2057400" y="4191120"/>
              <a:ext cx="2070000" cy="169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37"/>
          <p:cNvGrpSpPr/>
          <p:nvPr/>
        </p:nvGrpSpPr>
        <p:grpSpPr>
          <a:xfrm>
            <a:off x="4800600" y="3429000"/>
            <a:ext cx="4358520" cy="3309480"/>
            <a:chOff x="4800600" y="3429000"/>
            <a:chExt cx="4358520" cy="3309480"/>
          </a:xfrm>
        </p:grpSpPr>
        <p:grpSp>
          <p:nvGrpSpPr>
            <p:cNvPr id="130" name="Group 25"/>
            <p:cNvGrpSpPr/>
            <p:nvPr/>
          </p:nvGrpSpPr>
          <p:grpSpPr>
            <a:xfrm>
              <a:off x="4800600" y="3581280"/>
              <a:ext cx="457200" cy="457200"/>
              <a:chOff x="4800600" y="3581280"/>
              <a:chExt cx="457200" cy="457200"/>
            </a:xfrm>
          </p:grpSpPr>
          <p:sp>
            <p:nvSpPr>
              <p:cNvPr id="131" name="Oval 26"/>
              <p:cNvSpPr/>
              <p:nvPr/>
            </p:nvSpPr>
            <p:spPr>
              <a:xfrm>
                <a:off x="4800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27"/>
              <p:cNvSpPr/>
              <p:nvPr/>
            </p:nvSpPr>
            <p:spPr>
              <a:xfrm>
                <a:off x="4862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28"/>
            <p:cNvSpPr/>
            <p:nvPr/>
          </p:nvSpPr>
          <p:spPr>
            <a:xfrm>
              <a:off x="4805640" y="6095880"/>
              <a:ext cx="43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shares select student 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entire class by broadcasting 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9" descr="xo-inked"/>
            <p:cNvPicPr/>
            <p:nvPr/>
          </p:nvPicPr>
          <p:blipFill>
            <a:blip r:embed="rId5"/>
            <a:stretch/>
          </p:blipFill>
          <p:spPr>
            <a:xfrm>
              <a:off x="5562720" y="3429000"/>
              <a:ext cx="16002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0" descr="xo-inked"/>
            <p:cNvPicPr/>
            <p:nvPr/>
          </p:nvPicPr>
          <p:blipFill>
            <a:blip r:embed="rId6"/>
            <a:stretch/>
          </p:blipFill>
          <p:spPr>
            <a:xfrm>
              <a:off x="6781680" y="4081320"/>
              <a:ext cx="23623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1" descr="xo-inked"/>
            <p:cNvPicPr/>
            <p:nvPr/>
          </p:nvPicPr>
          <p:blipFill>
            <a:blip r:embed="rId7"/>
            <a:stretch/>
          </p:blipFill>
          <p:spPr>
            <a:xfrm>
              <a:off x="5105520" y="4797360"/>
              <a:ext cx="12952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Line 3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971800" cy="2631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538920" y="2787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loads slide de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s sli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457200" y="196920"/>
            <a:ext cx="457200" cy="457200"/>
            <a:chOff x="457200" y="196920"/>
            <a:chExt cx="457200" cy="457200"/>
          </a:xfrm>
        </p:grpSpPr>
        <p:sp>
          <p:nvSpPr>
            <p:cNvPr id="142" name="Oval 4"/>
            <p:cNvSpPr/>
            <p:nvPr/>
          </p:nvSpPr>
          <p:spPr>
            <a:xfrm>
              <a:off x="457200" y="196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519480" y="2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4800600" y="152280"/>
            <a:ext cx="4029120" cy="3157200"/>
            <a:chOff x="4800600" y="152280"/>
            <a:chExt cx="4029120" cy="3157200"/>
          </a:xfrm>
        </p:grpSpPr>
        <p:grpSp>
          <p:nvGrpSpPr>
            <p:cNvPr id="145" name="Group 7"/>
            <p:cNvGrpSpPr/>
            <p:nvPr/>
          </p:nvGrpSpPr>
          <p:grpSpPr>
            <a:xfrm>
              <a:off x="4800600" y="152280"/>
              <a:ext cx="457200" cy="457200"/>
              <a:chOff x="4800600" y="152280"/>
              <a:chExt cx="457200" cy="457200"/>
            </a:xfrm>
          </p:grpSpPr>
          <p:sp>
            <p:nvSpPr>
              <p:cNvPr id="146" name="Oval 8"/>
              <p:cNvSpPr/>
              <p:nvPr/>
            </p:nvSpPr>
            <p:spPr>
              <a:xfrm>
                <a:off x="4800600" y="152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4862880" y="19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Picture 10" descr="xo-cp-mockup-ink1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004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"/>
            <p:cNvSpPr/>
            <p:nvPr/>
          </p:nvSpPr>
          <p:spPr>
            <a:xfrm>
              <a:off x="4807080" y="2666880"/>
              <a:ext cx="40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s see slides and teacher’s in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own ink and send back to te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rc 12"/>
          <p:cNvSpPr/>
          <p:nvPr/>
        </p:nvSpPr>
        <p:spPr>
          <a:xfrm>
            <a:off x="3429000" y="380880"/>
            <a:ext cx="380880" cy="38124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13"/>
          <p:cNvSpPr/>
          <p:nvPr/>
        </p:nvSpPr>
        <p:spPr>
          <a:xfrm>
            <a:off x="3429000" y="228600"/>
            <a:ext cx="533520" cy="53352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14"/>
          <p:cNvSpPr/>
          <p:nvPr/>
        </p:nvSpPr>
        <p:spPr>
          <a:xfrm>
            <a:off x="3429000" y="76320"/>
            <a:ext cx="685800" cy="68580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228600" y="3581280"/>
            <a:ext cx="4092480" cy="3157200"/>
            <a:chOff x="228600" y="3581280"/>
            <a:chExt cx="4092480" cy="3157200"/>
          </a:xfrm>
        </p:grpSpPr>
        <p:pic>
          <p:nvPicPr>
            <p:cNvPr id="154" name="Picture 24" descr="xo-slide-ink2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854360" cy="15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Group 15"/>
            <p:cNvGrpSpPr/>
            <p:nvPr/>
          </p:nvGrpSpPr>
          <p:grpSpPr>
            <a:xfrm>
              <a:off x="228600" y="3581280"/>
              <a:ext cx="457200" cy="457200"/>
              <a:chOff x="228600" y="3581280"/>
              <a:chExt cx="457200" cy="457200"/>
            </a:xfrm>
          </p:grpSpPr>
          <p:sp>
            <p:nvSpPr>
              <p:cNvPr id="156" name="Oval 16"/>
              <p:cNvSpPr/>
              <p:nvPr/>
            </p:nvSpPr>
            <p:spPr>
              <a:xfrm>
                <a:off x="228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7"/>
              <p:cNvSpPr/>
              <p:nvPr/>
            </p:nvSpPr>
            <p:spPr>
              <a:xfrm>
                <a:off x="290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8"/>
            <p:cNvSpPr/>
            <p:nvPr/>
          </p:nvSpPr>
          <p:spPr>
            <a:xfrm>
              <a:off x="232920" y="6095880"/>
              <a:ext cx="408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receives and reviews 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missions; gets feedback from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1" descr="xo-slide-ink1"/>
            <p:cNvPicPr/>
            <p:nvPr/>
          </p:nvPicPr>
          <p:blipFill>
            <a:blip r:embed="rId4"/>
            <a:stretch/>
          </p:blipFill>
          <p:spPr>
            <a:xfrm>
              <a:off x="2057400" y="4191120"/>
              <a:ext cx="2070000" cy="169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37"/>
          <p:cNvGrpSpPr/>
          <p:nvPr/>
        </p:nvGrpSpPr>
        <p:grpSpPr>
          <a:xfrm>
            <a:off x="4800600" y="3429000"/>
            <a:ext cx="4358520" cy="3309480"/>
            <a:chOff x="4800600" y="3429000"/>
            <a:chExt cx="4358520" cy="3309480"/>
          </a:xfrm>
        </p:grpSpPr>
        <p:grpSp>
          <p:nvGrpSpPr>
            <p:cNvPr id="161" name="Group 25"/>
            <p:cNvGrpSpPr/>
            <p:nvPr/>
          </p:nvGrpSpPr>
          <p:grpSpPr>
            <a:xfrm>
              <a:off x="4800600" y="3581280"/>
              <a:ext cx="457200" cy="457200"/>
              <a:chOff x="4800600" y="3581280"/>
              <a:chExt cx="457200" cy="457200"/>
            </a:xfrm>
          </p:grpSpPr>
          <p:sp>
            <p:nvSpPr>
              <p:cNvPr id="162" name="Oval 26"/>
              <p:cNvSpPr/>
              <p:nvPr/>
            </p:nvSpPr>
            <p:spPr>
              <a:xfrm>
                <a:off x="4800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7"/>
              <p:cNvSpPr/>
              <p:nvPr/>
            </p:nvSpPr>
            <p:spPr>
              <a:xfrm>
                <a:off x="4862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28"/>
            <p:cNvSpPr/>
            <p:nvPr/>
          </p:nvSpPr>
          <p:spPr>
            <a:xfrm>
              <a:off x="4805640" y="6095880"/>
              <a:ext cx="43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shares select student 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entire class by broadcasting 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9" descr="xo-inked"/>
            <p:cNvPicPr/>
            <p:nvPr/>
          </p:nvPicPr>
          <p:blipFill>
            <a:blip r:embed="rId5"/>
            <a:stretch/>
          </p:blipFill>
          <p:spPr>
            <a:xfrm>
              <a:off x="5562720" y="3429000"/>
              <a:ext cx="16002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0" descr="xo-inked"/>
            <p:cNvPicPr/>
            <p:nvPr/>
          </p:nvPicPr>
          <p:blipFill>
            <a:blip r:embed="rId6"/>
            <a:stretch/>
          </p:blipFill>
          <p:spPr>
            <a:xfrm>
              <a:off x="6781680" y="4081320"/>
              <a:ext cx="23623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1" descr="xo-inked"/>
            <p:cNvPicPr/>
            <p:nvPr/>
          </p:nvPicPr>
          <p:blipFill>
            <a:blip r:embed="rId7"/>
            <a:stretch/>
          </p:blipFill>
          <p:spPr>
            <a:xfrm>
              <a:off x="5105520" y="4797360"/>
              <a:ext cx="12952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Line 3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C94A-BA55-40F7-80A6-581699646E7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: Graph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6C7D-6389-4061-8738-88A22EDCA0F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: Networking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on Pla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7E8-5AAD-42D3-89A1-B37B1EBFBEF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on Pla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on Pla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F9C7-F5A9-4F3B-B6B2-9F12BE48456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660240" y="1434960"/>
            <a:ext cx="3048120" cy="37465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6094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slides, communicate control information, share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ath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onent of Sugar OS: provides discovery of shared activities and establishes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unctionality regardless of underlying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d starting point for XO to XO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etano Borriello</dc:creator>
  <dc:description/>
  <cp:keywords/>
  <dc:language>en-US</dc:language>
  <cp:lastModifiedBy>wburnsid</cp:lastModifiedBy>
  <dcterms:modified xsi:type="dcterms:W3CDTF">2008-02-20T03:34:16Z</dcterms:modified>
  <cp:revision>10</cp:revision>
  <dc:subject/>
  <dc:title>Project title</dc:title>
</cp:coreProperties>
</file>